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1D7-8758-47D1-BCEA-EAE4189A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8AE-C091-4DB3-9EF9-7301B979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C4B-69F7-45A8-AD68-C37225BF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4AA-DA1F-4657-889E-DCB41759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171A-2D77-4022-86F3-95CECF00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120A-4FBE-4C74-A0C1-20ECB207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36E2-C4A0-43B5-8F30-C8E7F3D5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7E5A-EEA1-4C44-8B0E-C7DBF4F6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060-4AE3-44AB-B3EF-5858BB5C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0377-733B-4312-BECB-8A347CF1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D9C4-8BF7-49C0-887B-5C5F255C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49C-CDC2-4B6B-B34C-975B8C1A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98B9-35C6-4367-AB46-27448BF5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A16E-5F72-458B-AA0E-601C3CE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A899-5453-4F8D-8EDB-451556E8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2BC5-91DC-4075-AF33-14B30A47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9751-B9F7-4E05-811F-B8B1B5D2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DA0B-B024-4DB5-A8D4-A1763142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AF0A-7A3E-42FC-B3D7-FEB86AC3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3951-6026-42B2-B915-D09D563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6B8B-5439-4428-8C7A-DDB96EE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F0FD-B3F2-4CE6-814D-BD8D1322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1EE-7FF8-4A0F-8CBC-F6D8228A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F9CF-3303-40F8-9F37-74FC8DC1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A1DC-CAC0-40E4-995F-D7438E6B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8E35-97B3-433E-876E-3E94AF5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2301-A133-4765-9B9D-E161198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66AE-ED7D-42EC-BA7E-CAAD2B4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7286D-1BDE-4397-8310-869B0428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E847-D2FA-45F1-A4BC-B9A66879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EF09-D5C3-4D7E-B1E4-4DB22FBF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805D8-D82E-4336-A8B5-1C2861F5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BBD6-C0C6-4494-B07A-68B83120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FD7-4DE7-4CF7-81F6-C6875004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D6CD4-0799-46D5-AAC9-355B2DB8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C90D-E0A1-41A3-8E80-8B4AC1BD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061CA-4808-463B-BDC3-69EB8FD2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1028-6F61-4D49-90F0-DE84A2D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1470-3B8D-405E-8034-0DE67473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F916-2D20-4F9F-9970-2EBDB109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FD96-9EEA-4F3A-9C86-672AFD29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C81B7-0DE1-4803-805C-CD6EACD8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217F2-F727-45A6-8087-609C1F7C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825-1374-4323-BFE6-5A85F8D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3B6-C3EC-424A-A904-1546C524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4E6-8235-4587-9302-BA1E28F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6F1-1565-4485-9D80-31F734F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59F-7D76-41A5-BF14-124381DD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D06-CA51-4495-814A-DFFEA01022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78EB-8325-4201-A03F-9DD7C4A1F6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4D10-949E-4DD2-BB13-1C1CE2A07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0E2C-6111-42F5-9D1D-7DC443087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ootmouse.com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hyperlink" Target="http://atestore.enablemart.com/products_detail.asp?id=154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bilityhub.com/" TargetMode="External"/><Relationship Id="rId3" Type="http://schemas.openxmlformats.org/officeDocument/2006/relationships/hyperlink" Target="http://www.readplease.com/" TargetMode="External"/><Relationship Id="rId4" Type="http://schemas.openxmlformats.org/officeDocument/2006/relationships/hyperlink" Target="http://www.synapseadaptive.com/aisquared/zoomtext_9/zoomtext_9_magnifier_reader.htm" TargetMode="External"/><Relationship Id="rId5" Type="http://schemas.openxmlformats.org/officeDocument/2006/relationships/hyperlink" Target="http://www.iglou.com/vrsky/" TargetMode="External"/><Relationship Id="rId6" Type="http://schemas.openxmlformats.org/officeDocument/2006/relationships/hyperlink" Target="http://www.e-speaking.com/" TargetMode="External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8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alking Device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raille trans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mited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lete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1542960" cy="234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M Classroom Audi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4043520" cy="290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sed 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Hearing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267080" cy="3405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ny types of mobility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lking, dexterity, par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26692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yboard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5324400" cy="372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ot-controlled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6" name="" descr="no hands mouse control of the mouse and cursor using a fe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819520"/>
            <a:ext cx="3962520" cy="2776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el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43480" y="2095560"/>
            <a:ext cx="3027240" cy="39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ech command of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-speak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429000" cy="361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980720" y="2057400"/>
            <a:ext cx="3886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ye-driven keyboarding (Eye-ga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p and Pu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Mobility Disabilit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5" name="" descr="Image:Sip-and-puff device.jpg"/>
          <p:cNvPicPr/>
          <p:nvPr/>
        </p:nvPicPr>
        <p:blipFill>
          <a:blip r:embed="rId2"/>
          <a:stretch/>
        </p:blipFill>
        <p:spPr>
          <a:xfrm>
            <a:off x="6324480" y="3429000"/>
            <a:ext cx="2086200" cy="2781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EyeTech Digital Systems, control computer cursor with eye moveme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295280"/>
            <a:ext cx="2295720" cy="2343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ive &amp; Assistiv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ual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earing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bility Impair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and Learning Disabilities: Leveling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Plan Assignment: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Presentation Topic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our on-line identities relevant to who we are off-line? Is on-line even a REAL pla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Universal Desig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828800" y="17524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sign of products that helps all, including people with dis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rrier-free”               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ample: Curb-cuts                        in sidewalks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elps people with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eral benefits for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e01318"/>
                </a:solidFill>
                <a:latin typeface="Arial"/>
              </a:rPr>
              <a:t>Example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Text-to-speec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Computer monitor with touch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Closed 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Wheel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4600" y="2437920"/>
            <a:ext cx="6168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eferable to adaptive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Universal Design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logy &amp; Learning Disabilit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Leveling the Field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904760" y="1752120"/>
            <a:ext cx="6778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y technologies allow effective interventions for 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echnology and LD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3943440" cy="296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 – to – speech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rmits user to “listen” t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sts with reading / understand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e01318"/>
                </a:solidFill>
                <a:latin typeface="Arial"/>
              </a:rPr>
              <a:t>Read Pleas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013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01318"/>
                </a:solidFill>
                <a:latin typeface="Arial"/>
              </a:rPr>
              <a:t>Word Processors – e.g. MS Wor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yslexia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828800" y="2057040"/>
            <a:ext cx="677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ech recogni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peech – to – text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ows user to speak answers or information that is translated to written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700"/>
              </a:spcBef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Dragon Naturally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Dysgraphia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828800" y="2057400"/>
            <a:ext cx="6778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y allows ALL students to have similar quality of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students can have equal access to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efits self-esteem and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 Level Playing Field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828800" y="1295280"/>
            <a:ext cx="6778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ility Hub – Links a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bilityhub.com/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Plea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text to speech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Zoom Tex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magnifies scre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ragon Naturally Speak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peech to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-speak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voice comm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Resourc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76720" y="60912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daptive &amp; Assistive Technologi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students using computers"/>
          <p:cNvPicPr/>
          <p:nvPr/>
        </p:nvPicPr>
        <p:blipFill>
          <a:blip r:embed="rId2"/>
          <a:stretch/>
        </p:blipFill>
        <p:spPr>
          <a:xfrm>
            <a:off x="2514600" y="2971800"/>
            <a:ext cx="4952880" cy="34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e our on-line ident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levant to who w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re off-lin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on-line even a REAL 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Paper due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04760" y="1447560"/>
            <a:ext cx="6778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chnologies that allow people with physical disabilities to perform or use common tasks 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ahoma"/>
              </a:rPr>
              <a:t>Adaptive / Assistive Technology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1" name="" descr="Image:Head-wand.jpg"/>
          <p:cNvPicPr/>
          <p:nvPr/>
        </p:nvPicPr>
        <p:blipFill>
          <a:blip r:embed="rId2"/>
          <a:stretch/>
        </p:blipFill>
        <p:spPr>
          <a:xfrm>
            <a:off x="4876920" y="37339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057400" y="3123720"/>
            <a:ext cx="6778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mited vision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plete impairment</a:t>
            </a:r>
            <a:endParaRPr b="0" i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43828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Tahoma"/>
              </a:rPr>
              <a:t>Visual Disability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828880" cy="237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4760" y="1447920"/>
            <a:ext cx="67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arge Screen monitor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xt readers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Limited / low vi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210360" y="3276720"/>
            <a:ext cx="2446200" cy="327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Zoom text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software that magnifies regular computer screen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Limited / low vi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581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7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een Readers – text to speech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software that reads screen text to 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b based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 Plea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2438640" cy="225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828440" y="11430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s of adap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-to-text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ch commands (computers, phon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mplete Vision Lo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2-08T02:21:19Z</dcterms:modified>
  <cp:revision>27</cp:revision>
  <dc:subject/>
  <dc:title>Welcome to  ED3862</dc:title>
</cp:coreProperties>
</file>